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B8638-D679-4B9E-B040-71C3C6275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B59-8805-4552-A735-A601E9A7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CF0-FA9C-4C6B-9FC6-0452668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8E0-E747-4688-ADB3-B6B91918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300-7268-4B61-B3E2-B2B4E19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0C9-ED88-4F29-B55B-EADEF78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9BA-0712-4681-8E55-7F9D2DA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0C2-A9E0-4149-ACBD-BE31578C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848-3827-433B-B492-3EB0C14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F28-500D-4A1A-9708-EDA706AA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E52-032A-427A-9697-2664918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F6C-18ED-4E91-B3C6-C14D2C5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29D-12F1-41CC-B61C-FE2E7ED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85E5D-57FE-4497-8D8D-84B044B70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54480" y="1473120"/>
            <a:ext cx="69778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Our God, He Is Al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59320" y="2700360"/>
            <a:ext cx="892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880" y="5978520"/>
            <a:ext cx="181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6920" y="1417680"/>
            <a:ext cx="741348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, beyond the azure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God concealed from human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tinted skies with heav’nl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framed the world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great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1800" y="1874880"/>
            <a:ext cx="809496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was, a long, long time a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God whose voice the prophet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the God that we should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o speaks from His inspired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4200" y="2027160"/>
            <a:ext cx="81558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ure is life from mortal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d holds the germ within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o’ men may search, they cannot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God alone doe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44280" y="1874880"/>
            <a:ext cx="76680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ur God, whose Son upon a tr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 life was willing there to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He from sin might set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evermore with Him could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re is a God, He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him we live, and we surv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rom dust our God creat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 is our God, the great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(the great I 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30480" y="5608800"/>
            <a:ext cx="75438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WORDS: A. W. Dicus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MUSIC: A. W. Dicus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© 1996 A. W. Dicus. Assigned to Sacred Selections, © 197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ll rights reserved. Used by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ila Jones</cp:lastModifiedBy>
  <dcterms:modified xsi:type="dcterms:W3CDTF">2006-06-11T23:42:15Z</dcterms:modified>
  <cp:revision>6</cp:revision>
  <dc:subject/>
  <dc:title>Slide 1</dc:title>
</cp:coreProperties>
</file>